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4EE8-8CB3-401F-926E-44FE70B2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9331-D2DE-4FA7-9052-3793A701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5DF22-8722-49C7-8ADC-320C38D2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E20E-1AA8-4DEA-B6E0-EEEA9DA5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9D6F-F0C7-40E4-92B1-C9F9D33A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0597-820B-4A33-A2DF-8C4AB6A5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EB929-1B1E-4B50-BA66-B574F4B6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1FD57-0DF3-49ED-82A3-96686D4E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A967-E6EA-4138-9AA7-3164022B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FF84-1F53-427C-A4E5-01C385D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29C5-A206-4FDE-BC74-B00A0931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8215-B246-4B5C-AD3D-D8A1BD26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9E913782-6D46-431C-9EB4-556A4E285909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1AA7-1B55-4C6A-8D18-863935982267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51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60240" y="2057400"/>
            <a:ext cx="173376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3048120"/>
            <a:ext cx="1071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048120"/>
            <a:ext cx="66024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48160" y="3352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1905120"/>
            <a:ext cx="130644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65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 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concept without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66688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043520" y="5257800"/>
            <a:ext cx="5198760" cy="7621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Linux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0240" y="4724280"/>
            <a:ext cx="2887920" cy="1295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us, PSO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3520" y="4724280"/>
            <a:ext cx="5198760" cy="5335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60240" y="3657600"/>
            <a:ext cx="5446440" cy="1066680"/>
            <a:chOff x="660240" y="3657600"/>
            <a:chExt cx="5446440" cy="1066680"/>
          </a:xfrm>
        </p:grpSpPr>
        <p:sp>
          <p:nvSpPr>
            <p:cNvPr id="75" name=""/>
            <p:cNvSpPr/>
            <p:nvPr/>
          </p:nvSpPr>
          <p:spPr>
            <a:xfrm>
              <a:off x="4043520" y="3657600"/>
              <a:ext cx="206316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0240" y="3657600"/>
              <a:ext cx="2888280" cy="106668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60240" y="2057400"/>
            <a:ext cx="1930680" cy="1600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81360" y="3048120"/>
            <a:ext cx="774720" cy="6094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51440" y="3200400"/>
            <a:ext cx="1358640" cy="4572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8160" y="236232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095880"/>
            <a:ext cx="10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59360" y="6172200"/>
            <a:ext cx="18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29240" y="1905120"/>
            <a:ext cx="5778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30880" y="3657600"/>
            <a:ext cx="9907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04040" y="3657600"/>
            <a:ext cx="1030320" cy="10666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16800" y="365760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9600" y="3505320"/>
            <a:ext cx="825480" cy="10666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262640" y="1905120"/>
            <a:ext cx="2171520" cy="2514600"/>
            <a:chOff x="7262640" y="1905120"/>
            <a:chExt cx="2171520" cy="2514600"/>
          </a:xfrm>
        </p:grpSpPr>
        <p:sp>
          <p:nvSpPr>
            <p:cNvPr id="89" name=""/>
            <p:cNvSpPr/>
            <p:nvPr/>
          </p:nvSpPr>
          <p:spPr>
            <a:xfrm>
              <a:off x="8609400" y="3352680"/>
              <a:ext cx="824760" cy="106704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62640" y="1905120"/>
              <a:ext cx="2144160" cy="609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CDedit</a:t>
              </a:r>
              <a:br>
                <a:rPr sz="2400"/>
              </a:b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(ccddata_dll.dl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994240" y="25146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0666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 with TI-Multiplex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344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1905120"/>
            <a:ext cx="7495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1905120"/>
            <a:ext cx="143496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I-MUX</a:t>
            </a:r>
            <a:br>
              <a:rPr sz="2400"/>
            </a:b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(TraceMultiplexer.ex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2666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743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9448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target side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nable L1-tracing over one of the Com-Ports of the B/C-Sample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via monitor-program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650960" y="1228680"/>
            <a:ext cx="6600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7228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0" y="3733920"/>
            <a:ext cx="2781360" cy="23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3102120" cy="268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2767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952880"/>
            <a:ext cx="1371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9448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1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earCase: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sert “include \\hokus\csi\gpf_testtools.csi” right after “mkbranch xxx_view” in your ConfigSpec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build ccddata_dll.dll (in /GPF/BIN)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initvars.b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 ccddata gprs win32 tr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Configuration on </a:t>
            </a: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</a:t>
            </a:r>
            <a:r>
              <a:rPr b="0" lang="en-US" sz="2400" spc="-1" strike="noStrike">
                <a:solidFill>
                  <a:srgbClr val="003069"/>
                </a:solidFill>
                <a:latin typeface="ITC Officina Sans Book"/>
              </a:rPr>
              <a:t>estsystem/tool side (2)</a:t>
            </a:r>
            <a:endParaRPr b="0" lang="en-US" sz="24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general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py …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\\rk\ti_mux\bin\TraceMultiplexer.exe -&gt; /GPF/BIN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t baudrate of comport inside TI-TraceMultiplexer to 115200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985840" cy="1590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86200" y="4029120"/>
            <a:ext cx="5591160" cy="1366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4267080"/>
            <a:ext cx="2590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xPanel &amp; PCO2 - usage with TI-Multiplexer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Usag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estsystem/tool side: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 pco2.bat in /GPF/BIN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CAVE! For Win2000-SP2 use pco2000.bat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e /GPF/DOC/pco/pco_userguide.doc and /GPF/DOC/xpanel/xpan_userguide.doc </a:t>
            </a:r>
            <a:br>
              <a:rPr sz="2000"/>
            </a:b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r detailed information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Exit 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1143000"/>
            <a:ext cx="176688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5181480"/>
            <a:ext cx="6172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1-08-20T15:36:50Z</dcterms:modified>
  <cp:revision>80</cp:revision>
  <dc:subject/>
  <dc:title>xPanel &amp; PCO2</dc:title>
</cp:coreProperties>
</file>